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0133-BABF-446E-8E75-F4687C74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C553-F34B-4B5D-B132-8A58E920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324A-A853-48C7-8742-886442B5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0F09-17D4-4B95-8DE3-DA119594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8CA0-0805-48D9-B41D-1F1D9EAD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05E1-A08D-4D1A-B321-5B2EEEE7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5446-BFD4-4295-9C10-E73545CC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0663-4ECF-4ED1-997C-9676FEE2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5E1F-5DC1-4DC3-A0CA-31CEDB57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824A-3E55-48E7-B1FF-2004F758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D00C-C5B8-4570-987B-8283481C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8BBE-E397-45B9-AC68-B03603C0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B833-2A77-44DB-A42C-86DB9BA6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B6D2-9D2B-49AC-A46E-7A81572E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8BD7-4AA6-456D-98F3-B3A07D66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C66B-0256-49C7-9A0D-86EE7DBF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F7FB-A6E3-46EB-AD51-90FA0C8F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668E-7D1C-4212-8A68-B3ECCA99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6A5E-CCED-4EB0-B628-F10E147C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8E61-BE24-40E4-8D79-EA582512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A958-D607-401F-81F4-DF9DF8C3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9F1D-530F-4C0B-9CE0-47752EEA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F8C6-D912-484E-A5C3-6B6C8AF2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33C0-5C79-4212-9A37-3F3BA2BC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BD58-24E2-4D8F-B11B-E368AC3478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893A-AB24-4881-8173-EB576EF76C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dfdef6"/>
                </a:solidFill>
                <a:latin typeface="Arial"/>
              </a:rPr>
              <a:t>Redoxrektionen und Oxidationszahle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n Rike und Le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Überbl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lärung allgemeiner Begrif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duk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doxreak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xidationsza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ederho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fga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che Ladung haben Proton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e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che Ladung haben Elektron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e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sagt die Hauptgruppe über ein Atom a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e viele Elektronen sich in der äußerst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enz befin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ist Elektronegativitä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igt, mit welcher Kraft ein Atom Elektron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sich binden ka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Begriffserklärung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Wie ist die EN von Aluminiu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1,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Was ist eine Elektronenpaarbindu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indung, bei der sich mehrere Atome ein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lektronenpaar/mehrere Elektronenpaare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teil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N-Differenz ist kleiner als 1,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eispiel: H2O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Was ist eine Ionenbindu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indung, bei der die EN-Differenz zwischen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en beteiligten Atomen größer als 1,5 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eispiel: NaC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Wo im PSE findet man Metall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Oxid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ist eine Oxid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ktion mit Sauerstoff (einfach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bgabe von Elektr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paltung von Wasserstoff (biologisch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spiel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+  2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Reduk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ist eine Reduk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ktion mit Wasserstoff (einfach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ufnahme von Elektr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paltung von Sauerstoff (biologisch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spiel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2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dfdef6"/>
                </a:solidFill>
                <a:uFillTx/>
                <a:latin typeface="Arial"/>
              </a:rPr>
              <a:t>Redoxreak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as ist eine Redoxreak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fnahme und Abgabe von Elektronen innerhalb einer Reak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xidation und Reduktion sind immer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einander gekoppe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ispiel: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+  2e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Cl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 + 2e-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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2Cl</a:t>
            </a:r>
            <a:r>
              <a:rPr b="0" lang="de-DE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de-DE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de-DE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de-DE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g + Cl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+  2Cl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Oxidationszah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Ionenbindungen ist es kein Problem, positive und negative Ladungen zuzuord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Elektronenpaarbindungen schreibt man das/die Elektron/en dem Atom zu, das die höhere Elektronegativität 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Quell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hemie heute - Sekundarbereich II, Schroedel Verlag, Kapitel 8.2 , S. 1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große Tafelwerk - interaktiv, Cornelsen, S. 1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ww.wikipedia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4:32:51Z</dcterms:created>
  <dc:creator>Eggert</dc:creator>
  <dc:description/>
  <dc:language>en-US</dc:language>
  <cp:lastModifiedBy>Rike</cp:lastModifiedBy>
  <dcterms:modified xsi:type="dcterms:W3CDTF">2007-02-14T20:20:16Z</dcterms:modified>
  <cp:revision>8</cp:revision>
  <dc:subject/>
  <dc:title>Redoxrektionen und Oxidationszahlen</dc:title>
</cp:coreProperties>
</file>